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78AB-0EEB-4D3D-B803-1624A57F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FBC2-9D79-4284-B386-B8CD163D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C991-9233-40C5-A655-D35467E0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1E39-9E1C-4B94-9A3C-B636684C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22D-8C51-426A-B504-D2927BC4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806B-0AA8-4643-B915-A9879D2A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B4DF-6C91-41CB-BE73-433D8726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EC5F-13CF-4C17-890E-9B95E01B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601-55B0-4FE4-9AC5-2E26A78A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6830-4C8D-4555-B8E2-C84AFB27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52D9-CD7F-4F46-84D5-62398E92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32CC-F329-4047-BC9C-BAACF7A3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C3E0-74AB-4FBC-9EBD-EB0CFAF36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5257800"/>
            <a:ext cx="8153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The Little Snow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36840" y="689040"/>
            <a:ext cx="685800" cy="579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22440" y="1020600"/>
            <a:ext cx="5943600" cy="3856320"/>
          </a:xfrm>
          <a:custGeom>
            <a:avLst/>
            <a:gdLst/>
            <a:ahLst/>
            <a:rect l="l" t="t" r="r" b="b"/>
            <a:pathLst>
              <a:path w="9360" h="6690">
                <a:moveTo>
                  <a:pt x="0" y="30"/>
                </a:moveTo>
                <a:cubicBezTo>
                  <a:pt x="795" y="15"/>
                  <a:pt x="1590" y="0"/>
                  <a:pt x="2160" y="210"/>
                </a:cubicBezTo>
                <a:cubicBezTo>
                  <a:pt x="2730" y="420"/>
                  <a:pt x="3000" y="810"/>
                  <a:pt x="3420" y="1290"/>
                </a:cubicBezTo>
                <a:cubicBezTo>
                  <a:pt x="3840" y="1770"/>
                  <a:pt x="4350" y="2520"/>
                  <a:pt x="4680" y="3090"/>
                </a:cubicBezTo>
                <a:cubicBezTo>
                  <a:pt x="5010" y="3660"/>
                  <a:pt x="5010" y="4230"/>
                  <a:pt x="5400" y="4710"/>
                </a:cubicBezTo>
                <a:cubicBezTo>
                  <a:pt x="5790" y="5190"/>
                  <a:pt x="6360" y="5640"/>
                  <a:pt x="7020" y="5970"/>
                </a:cubicBezTo>
                <a:cubicBezTo>
                  <a:pt x="7680" y="6300"/>
                  <a:pt x="8970" y="6570"/>
                  <a:pt x="9360" y="669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36840" y="689040"/>
            <a:ext cx="685800" cy="579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520" y="563868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day a little snowball went rolling down a h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2440" y="1020600"/>
            <a:ext cx="5943600" cy="4248360"/>
          </a:xfrm>
          <a:custGeom>
            <a:avLst/>
            <a:gdLst/>
            <a:ahLst/>
            <a:rect l="l" t="t" r="r" b="b"/>
            <a:pathLst>
              <a:path w="9360" h="6690">
                <a:moveTo>
                  <a:pt x="0" y="30"/>
                </a:moveTo>
                <a:cubicBezTo>
                  <a:pt x="795" y="15"/>
                  <a:pt x="1590" y="0"/>
                  <a:pt x="2160" y="210"/>
                </a:cubicBezTo>
                <a:cubicBezTo>
                  <a:pt x="2730" y="420"/>
                  <a:pt x="3000" y="810"/>
                  <a:pt x="3420" y="1290"/>
                </a:cubicBezTo>
                <a:cubicBezTo>
                  <a:pt x="3840" y="1770"/>
                  <a:pt x="4350" y="2520"/>
                  <a:pt x="4680" y="3090"/>
                </a:cubicBezTo>
                <a:cubicBezTo>
                  <a:pt x="5010" y="3660"/>
                  <a:pt x="5010" y="4230"/>
                  <a:pt x="5400" y="4710"/>
                </a:cubicBezTo>
                <a:cubicBezTo>
                  <a:pt x="5790" y="5190"/>
                  <a:pt x="6360" y="5640"/>
                  <a:pt x="7020" y="5970"/>
                </a:cubicBezTo>
                <a:cubicBezTo>
                  <a:pt x="7680" y="6300"/>
                  <a:pt x="8970" y="6570"/>
                  <a:pt x="9360" y="669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4114800"/>
            <a:ext cx="815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bounced and rolled and picked up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got bigger.</a:t>
            </a:r>
            <a:r>
              <a:rPr b="0" lang="en-US" sz="2400" spc="-1" strike="noStrike">
                <a:solidFill>
                  <a:srgbClr val="000000"/>
                </a:solidFill>
                <a:latin typeface="Stone Sans ITC TT-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57600" y="1447920"/>
            <a:ext cx="1905120" cy="161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0" y="49528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Child’s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4419720"/>
            <a:ext cx="815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bounced and rolled and picked up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got big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2362320" cy="2001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0" y="52578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Child’s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572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Note: Keep inserting duplicates of this page and making the snowball b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28600"/>
            <a:ext cx="83055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bottom of the hill, the snowb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t a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went SPLA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ryone fell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9880" y="609480"/>
            <a:ext cx="5334120" cy="5908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43000" y="2276640"/>
            <a:ext cx="59436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4648320"/>
            <a:ext cx="8153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4:10:44Z</dcterms:created>
  <dc:creator>Patti Porto</dc:creator>
  <dc:description/>
  <dc:language>en-US</dc:language>
  <cp:lastModifiedBy>Patti Porto</cp:lastModifiedBy>
  <dcterms:modified xsi:type="dcterms:W3CDTF">2008-01-24T17:10:43Z</dcterms:modified>
  <cp:revision>9</cp:revision>
  <dc:subject/>
  <dc:title>PowerPoint Presentation</dc:title>
</cp:coreProperties>
</file>